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23347-F6E1-441F-8BF1-F4C684A5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173E-57A2-41F0-AD76-5262526D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81BF-0623-48EA-B812-F7CCDEC9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9EDE-F6EB-49B0-AD6D-EBB586B7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C557-633B-40D6-B7D8-0E65215B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214F-EF34-48C7-8708-537082F2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E2AF-9D59-4ECB-BE29-E63443E8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6B13-5343-472E-AF01-D805BFC9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31B7-799D-4B0E-A9A1-B6ED284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86F8-73EF-446C-8BCF-13CB5DC7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483B-AE34-4ABC-BDF2-4FAB835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77C6-9CBB-4867-AE82-80902A2E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A018-5710-42BD-A2F7-B79D36B3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7EED-668D-4F6E-9E32-B203FBB9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E252-417D-48CB-AE5E-4DF491B8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57A9-B895-4FCE-84CB-F7D60659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5012-951A-4160-B9F3-50353759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B96C-48E9-4829-AD41-54B99E0A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0E9C-73C9-4407-B3FA-B449A1A2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140A-49F7-4225-8F4A-41743520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EE68-F3AD-49C1-B786-24B3C7D4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FCFBA-B65F-42D2-B0C4-6533D1CD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AB9B-FD81-4352-9340-1CAC66FA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2465-9D6C-49E0-932D-DA419D51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0BC2-6E10-4F40-998F-F5CBF26FA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8FC7-FE32-4B74-8B42-52413416D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ffin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eak the Affine cipher all that is necessary is to find the substitution for two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say plaintext “e” is represented in the ciphertext by “c” and plaintext “t” is represented in the ciphertext by “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substitutions define to affin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9720" y="4114800"/>
            <a:ext cx="80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= a*4 + b mod 26 (since e – character 4 is replaced by c – charac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= a*19 + b mod 26 (since t – character 19 is replaced by f – characte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3840" y="5105520"/>
            <a:ext cx="71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the two equations for a and b results in the affine key (21,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affine equ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c = 21*p + 22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060E-8097-4313-9B79-18E25DAFE4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solve the equations provided you find at least two correct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670572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81280" y="2971800"/>
            <a:ext cx="1295640" cy="685800"/>
          </a:xfrm>
          <a:prstGeom prst="wedgeRoundRectCallout">
            <a:avLst>
              <a:gd name="adj1" fmla="val -45953"/>
              <a:gd name="adj2" fmla="val 6990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514600"/>
            <a:ext cx="1295640" cy="380880"/>
          </a:xfrm>
          <a:prstGeom prst="wedgeRoundRectCallout">
            <a:avLst>
              <a:gd name="adj1" fmla="val -45953"/>
              <a:gd name="adj2" fmla="val 16583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on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1905120" cy="1143000"/>
          </a:xfrm>
          <a:prstGeom prst="wedgeRoundRectCallout">
            <a:avLst>
              <a:gd name="adj1" fmla="val -47250"/>
              <a:gd name="adj2" fmla="val 8861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appears to be plaintext then you were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wise try another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5228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8A90-BDC9-4D45-B61F-01285DAA25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3T00:30:51Z</dcterms:modified>
  <cp:revision>31</cp:revision>
  <dc:subject/>
  <dc:title>CAP Cryptographic Analysis Program</dc:title>
</cp:coreProperties>
</file>